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3ED1-2796-4C52-94FA-5F37278D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BDC8-140F-42BC-A770-B17C2F04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F3D0-506F-4C98-A49D-973EFAE6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0ECC-23ED-4733-93E7-05DACB7C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7C70-7DC9-4BA8-B5EA-32B97FB8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8DAD-0670-4661-A111-62385095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905B-FB3C-4F67-97CD-9416F24C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F8E7-C560-4464-8A7B-9F22817A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4F33-D603-4AB1-8205-EB10CEF2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3ED9-4668-4A96-B92A-6D1A595C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C0AE-4D9F-4C9F-9467-802DAD18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82BE-14BA-4C18-984F-BEE078BC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0A5A-6CA3-4C9E-BCDD-5CAFE1AE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B036-AB94-48E7-82D7-2C18A5FE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B3ED-A89F-46D0-ABA1-387370A2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07E6-0F86-4894-A5B2-7BE77EF1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E488-B773-4BC9-8729-C6536B77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B6B9A-EF90-438F-A7E0-919D4505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2E8A5-E1CA-437A-BABF-51B3B83B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CAD59-9AA2-460B-BD00-C10E0110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044D0-A04B-4C4C-BEEE-089DCF92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FCAC8-8EF4-4D09-A05A-69D08BC8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8145-FD24-48E0-89FD-56241088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0BDFB-FCAC-4D84-80C1-E5A8DA72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42A8B-10CF-430F-B1CA-DFADA6E3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F00D6-642A-4807-B42D-84EB6543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FBA07-5E34-400B-9606-E5649DB6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03CA9-8B6B-4660-B253-197B2D32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50501-AD3D-4267-8DD4-5F1D88C7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0787F-7CDD-4F88-A82F-CCAB96DF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F66FD-8132-4874-9ED4-D0586BD6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83976-43C8-415C-BF4F-A66D5015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EC6D8-9E70-4ED3-B687-5BC0A132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858C-E1D6-422A-863B-2A88B901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2FCDE-9B70-42B5-A306-B3D9C9E7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BC92E-6E2A-4246-897C-0ACA9649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B3A60-695E-4B0E-8636-0E459522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11C29-789D-42B2-925B-1EDDE477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C9587-E201-4B69-ABD5-46DCDE06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7C49A-EBE5-4A6C-B41C-752E46C0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763B7-F1A7-46F4-AA28-93349938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B804F-818E-4E38-A02C-8E7DDA8FA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D94A2-A26E-4115-BF15-BFC047F1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3FDFA-7FD2-4DBB-AAEA-83FC142C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7036-A693-4F4B-9DA2-D77BB7D0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266A5-A591-43A3-8948-C7C15C21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F9450-4365-40BE-8635-42CD4A5A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0BE93-2923-4E8F-884C-94F7FCB7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A21C0-B883-429F-9D10-3FBE5151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B5A69-7EDE-4CB3-B513-35225095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79690-83F3-4659-9266-0B739110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AEFB6-A461-4E7C-8B04-0AE74571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A1375-8BC6-47B3-B4B2-B2FD5875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E9D94-F692-450C-BF30-0649EC2E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873B8-4890-4423-973E-F50DD390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0B86-A1E6-4B99-BCA8-E1579245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648E5-B3C7-4385-9321-0AA674CF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424E-8AF3-4A2B-A166-AAB28C9D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02E7-B2EF-4E84-8C5C-AC91EA94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8C2-D4BA-4C0E-9C19-0558903C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6844-EDD8-405F-8406-88F113FA3145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4E68-5472-47CF-BFB6-8DAFC77D2EC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3390-E4BC-4130-8489-AE622A898683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285E-D37C-4A64-9C3F-27DEA5D2F3E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D4FE-B322-42E8-A1C4-C93945797A7C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9B51-7187-4815-8BFD-123ABD47164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A47D-5BD5-450F-A3EE-377FC31300FE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F6C6-77E9-40F8-BA0B-0BA8B176406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65C8-2BB2-4710-A721-72DC3A2647AF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19C9-5FA6-45BC-8326-D66E85E5FCC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990360" y="3200040"/>
            <a:ext cx="69339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1" i="1" lang="en-US" sz="3800" spc="-1" strike="noStrike">
                <a:solidFill>
                  <a:srgbClr val="000000"/>
                </a:solidFill>
                <a:latin typeface="Perpetua"/>
              </a:rPr>
              <a:t>Any Patient, Any Room, Any Time” 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Presented by</a:t>
            </a: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Perpetua"/>
              </a:rPr>
              <a:t>Bao (Kelly) To 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Perpetua"/>
              </a:rPr>
              <a:t>Malek Bessaad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Perpetua"/>
              </a:rPr>
              <a:t>October 9, 2007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Franklin Gothic Book"/>
              </a:rPr>
              <a:t>Emergency Department </a:t>
            </a:r>
            <a:br>
              <a:rPr sz="3500"/>
            </a:br>
            <a:r>
              <a:rPr b="1" lang="en-US" sz="5500" spc="-1" strike="noStrike">
                <a:solidFill>
                  <a:srgbClr val="ffffff"/>
                </a:solidFill>
                <a:latin typeface="Cambria"/>
              </a:rPr>
              <a:t>Universal Room</a:t>
            </a:r>
            <a:endParaRPr b="0" lang="en-US" sz="55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808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Franklin Gothic Book"/>
              </a:rPr>
              <a:t>Design Consider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3" name="Date Placeholder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6B7A-202B-4719-9379-05642D0D50D2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7BF1-329B-4AD9-8697-3DC81B03BDC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Individual patient roo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Using effective lighting and colors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Flexibility in adjusting room press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Design &amp; allocate adequate storage space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Non-movable, semi-movable, and movable fixtur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Utilization of mobile specialization cart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Patient-centered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Healthcare personnel-centered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Standardization of room layou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571500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uture Cart</a:t>
            </a:r>
            <a:endParaRPr b="0" lang="en-US" sz="1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8" name="Date Placeholder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3D9B-C387-4494-A835-82826BC5B748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3B3A-A726-491F-945D-EDAF5B64CA6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itle 1"/>
          <p:cNvSpPr/>
          <p:nvPr/>
        </p:nvSpPr>
        <p:spPr>
          <a:xfrm>
            <a:off x="30492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7f7f"/>
                </a:solidFill>
                <a:latin typeface="Franklin Gothic Book"/>
              </a:rPr>
              <a:t>Design Considerations: </a:t>
            </a:r>
            <a:r>
              <a:rPr b="1" lang="en-US" sz="2100" spc="-1" strike="noStrike">
                <a:solidFill>
                  <a:srgbClr val="000000"/>
                </a:solidFill>
                <a:latin typeface="Franklin Gothic Book"/>
              </a:rPr>
              <a:t>Design &amp; Allocate Adequate Storage Sp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C:\Users\My Ngoc\Desktop\pyxis.jpg"/>
          <p:cNvPicPr/>
          <p:nvPr/>
        </p:nvPicPr>
        <p:blipFill>
          <a:blip r:embed="rId1"/>
          <a:stretch/>
        </p:blipFill>
        <p:spPr>
          <a:xfrm>
            <a:off x="1295280" y="1049400"/>
            <a:ext cx="1447920" cy="2227320"/>
          </a:xfrm>
          <a:prstGeom prst="rect">
            <a:avLst/>
          </a:prstGeom>
          <a:ln w="0">
            <a:noFill/>
          </a:ln>
        </p:spPr>
      </p:pic>
      <p:sp>
        <p:nvSpPr>
          <p:cNvPr id="303" name="Title 1"/>
          <p:cNvSpPr/>
          <p:nvPr/>
        </p:nvSpPr>
        <p:spPr>
          <a:xfrm>
            <a:off x="685800" y="32767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Pyxis Medic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C:\Users\My Ngoc\Desktop\GynoCart_Closed.jpg"/>
          <p:cNvPicPr/>
          <p:nvPr/>
        </p:nvPicPr>
        <p:blipFill>
          <a:blip r:embed="rId2"/>
          <a:stretch/>
        </p:blipFill>
        <p:spPr>
          <a:xfrm>
            <a:off x="6553080" y="4114800"/>
            <a:ext cx="1828800" cy="1766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8" descr="C:\Users\My Ngoc\Desktop\Ti Stuffs\universal room\med cart.jpg"/>
          <p:cNvPicPr/>
          <p:nvPr/>
        </p:nvPicPr>
        <p:blipFill>
          <a:blip r:embed="rId3"/>
          <a:stretch/>
        </p:blipFill>
        <p:spPr>
          <a:xfrm>
            <a:off x="1371600" y="4038480"/>
            <a:ext cx="1622520" cy="1694160"/>
          </a:xfrm>
          <a:prstGeom prst="rect">
            <a:avLst/>
          </a:prstGeom>
          <a:ln w="0">
            <a:noFill/>
          </a:ln>
        </p:spPr>
      </p:pic>
      <p:sp>
        <p:nvSpPr>
          <p:cNvPr id="306" name="Title 1"/>
          <p:cNvSpPr/>
          <p:nvPr/>
        </p:nvSpPr>
        <p:spPr>
          <a:xfrm>
            <a:off x="6705720" y="57913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Gyno C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3" descr="C:\Users\My Ngoc\Desktop\Ti Stuffs\universal room\fluids.jpg"/>
          <p:cNvPicPr/>
          <p:nvPr/>
        </p:nvPicPr>
        <p:blipFill>
          <a:blip r:embed="rId4"/>
          <a:stretch/>
        </p:blipFill>
        <p:spPr>
          <a:xfrm>
            <a:off x="4267080" y="4253040"/>
            <a:ext cx="1143000" cy="1601640"/>
          </a:xfrm>
          <a:prstGeom prst="rect">
            <a:avLst/>
          </a:prstGeom>
          <a:ln w="0">
            <a:noFill/>
          </a:ln>
        </p:spPr>
      </p:pic>
      <p:sp>
        <p:nvSpPr>
          <p:cNvPr id="308" name="Title 1"/>
          <p:cNvSpPr/>
          <p:nvPr/>
        </p:nvSpPr>
        <p:spPr>
          <a:xfrm>
            <a:off x="4191120" y="5867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Flu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20"/>
          <p:cNvCxnSpPr/>
          <p:nvPr/>
        </p:nvCxnSpPr>
        <p:spPr>
          <a:xfrm>
            <a:off x="3048120" y="2133720"/>
            <a:ext cx="7624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0" name="Straight Arrow Connector 22"/>
          <p:cNvCxnSpPr/>
          <p:nvPr/>
        </p:nvCxnSpPr>
        <p:spPr>
          <a:xfrm flipV="1">
            <a:off x="3200400" y="3580560"/>
            <a:ext cx="91512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traight Arrow Connector 24"/>
          <p:cNvCxnSpPr/>
          <p:nvPr/>
        </p:nvCxnSpPr>
        <p:spPr>
          <a:xfrm flipV="1">
            <a:off x="7160040" y="3582720"/>
            <a:ext cx="396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Straight Arrow Connector 26"/>
          <p:cNvCxnSpPr/>
          <p:nvPr/>
        </p:nvCxnSpPr>
        <p:spPr>
          <a:xfrm flipV="1">
            <a:off x="5104440" y="3580920"/>
            <a:ext cx="53388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13" name="Picture 20" descr="C:\Users\My Ngoc\Desktop\ED.waukesha memorial hosp.jpg"/>
          <p:cNvPicPr/>
          <p:nvPr/>
        </p:nvPicPr>
        <p:blipFill>
          <a:blip r:embed="rId5"/>
          <a:stretch/>
        </p:blipFill>
        <p:spPr>
          <a:xfrm>
            <a:off x="4648320" y="83808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314" name="TextBox 21"/>
          <p:cNvSpPr/>
          <p:nvPr/>
        </p:nvSpPr>
        <p:spPr>
          <a:xfrm>
            <a:off x="5571000" y="3352680"/>
            <a:ext cx="197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ukesha Memorial hospit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8"/>
          <p:cNvSpPr/>
          <p:nvPr/>
        </p:nvSpPr>
        <p:spPr>
          <a:xfrm>
            <a:off x="1219320" y="2971800"/>
            <a:ext cx="6858000" cy="2440080"/>
          </a:xfrm>
          <a:prstGeom prst="rect">
            <a:avLst/>
          </a:prstGeom>
          <a:solidFill>
            <a:srgbClr val="d2e3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patient transf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nosocomial inf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workload &amp; stress on nur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ptable to different needs of varying diagno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bile carts avoid overcrowding of space &amp; reduction in stocked supp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Franklin Gothic Book"/>
              </a:rPr>
              <a:t>Design Consider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Date Placeholder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1D7C-BDB2-4C8B-8993-5F6E7157918A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A0EC-86D7-4730-ACBC-486166A109A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Perpetua"/>
              </a:rPr>
              <a:t>Individual patient roo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Perpetua"/>
              </a:rPr>
              <a:t>Using effective lighting and colors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Perpetua"/>
              </a:rPr>
              <a:t>Flexibility in adjusting room press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Perpetua"/>
              </a:rPr>
              <a:t>Designating &amp; allocating adequate storage spa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Perpetua"/>
              </a:rPr>
              <a:t>Non-movable, semi-movable, and movable fixture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Perpetua"/>
              </a:rPr>
              <a:t>Utilization of mobile specialization carts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Patient-centered desig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Healthcare personnel-centered desig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Perpetua"/>
              </a:rPr>
              <a:t>Standardization of room layou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4817"/>
                </a:solidFill>
                <a:latin typeface="Franklin Gothic Book"/>
              </a:rPr>
              <a:t>Tulane University Hospital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4817"/>
                </a:solidFill>
                <a:latin typeface="Franklin Gothic Book"/>
              </a:rPr>
              <a:t>Pavilions Project Community Hospit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3" name="Content Placeholder 21" descr="tulane.jpg"/>
          <p:cNvPicPr/>
          <p:nvPr/>
        </p:nvPicPr>
        <p:blipFill>
          <a:blip r:embed="rId1"/>
          <a:stretch/>
        </p:blipFill>
        <p:spPr>
          <a:xfrm>
            <a:off x="914400" y="2438280"/>
            <a:ext cx="3733920" cy="2498760"/>
          </a:xfrm>
          <a:prstGeom prst="rect">
            <a:avLst/>
          </a:prstGeom>
          <a:ln w="0">
            <a:noFill/>
          </a:ln>
        </p:spPr>
      </p:pic>
      <p:pic>
        <p:nvPicPr>
          <p:cNvPr id="324" name="Content Placeholder 22" descr="pavilions project.jpg"/>
          <p:cNvPicPr/>
          <p:nvPr/>
        </p:nvPicPr>
        <p:blipFill>
          <a:blip r:embed="rId2"/>
          <a:stretch/>
        </p:blipFill>
        <p:spPr>
          <a:xfrm>
            <a:off x="4952880" y="2438280"/>
            <a:ext cx="3733920" cy="2489400"/>
          </a:xfrm>
          <a:prstGeom prst="rect">
            <a:avLst/>
          </a:prstGeom>
          <a:ln w="0">
            <a:noFill/>
          </a:ln>
        </p:spPr>
      </p:pic>
      <p:sp>
        <p:nvSpPr>
          <p:cNvPr id="325" name="Date Placeholder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D58F-AEF7-4362-8540-12CEA74B6CFA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483E-17EA-4641-87AF-4F91BD66157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itle 1"/>
          <p:cNvSpPr/>
          <p:nvPr/>
        </p:nvSpPr>
        <p:spPr>
          <a:xfrm>
            <a:off x="3049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Franklin Gothic Book"/>
              </a:rPr>
              <a:t>Design Considerations: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Patient-Centered Des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Healthcare personnel-centered desig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3"/>
          <p:cNvSpPr/>
          <p:nvPr/>
        </p:nvSpPr>
        <p:spPr>
          <a:xfrm>
            <a:off x="1523880" y="3581280"/>
            <a:ext cx="6172200" cy="2440080"/>
          </a:xfrm>
          <a:prstGeom prst="rect">
            <a:avLst/>
          </a:prstGeom>
          <a:solidFill>
            <a:srgbClr val="d2e3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mote effective process f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ucive friendly working atmosp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 in patient safety and quality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ff attraction and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ient satisfaction &amp;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Franklin Gothic Book"/>
              </a:rPr>
              <a:t>Design Consider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Date Placeholder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83A8-0D06-46F0-849F-71406532908D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00FF-F45B-4B3B-9DD5-5F922E369A1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Individual patient roo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Using effective lighting and colors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Flexibility in adjusting room press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Designating &amp; allocating adequate storage sp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Perpetua"/>
              </a:rPr>
              <a:t>Non-movable, semi-movable, and movable fixtur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Perpetua"/>
              </a:rPr>
              <a:t>Utilization of mobile specialization cart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Patient-centered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Healthcare personnel-centered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Standardization of room layou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5EB8-A503-4D11-8260-0DD293A43912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09C8-E5F6-4E79-BB87-A6FD02AD661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itle 1"/>
          <p:cNvSpPr/>
          <p:nvPr/>
        </p:nvSpPr>
        <p:spPr>
          <a:xfrm>
            <a:off x="30492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f7f7f"/>
                </a:solidFill>
                <a:latin typeface="Franklin Gothic Book"/>
              </a:rPr>
              <a:t>Design Considerations: </a:t>
            </a:r>
            <a:r>
              <a:rPr b="1" lang="en-US" sz="2300" spc="-1" strike="noStrike">
                <a:solidFill>
                  <a:srgbClr val="000000"/>
                </a:solidFill>
                <a:latin typeface="Franklin Gothic Book"/>
              </a:rPr>
              <a:t>Standardization of Room Lay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1"/>
          <p:cNvSpPr/>
          <p:nvPr/>
        </p:nvSpPr>
        <p:spPr>
          <a:xfrm>
            <a:off x="457200" y="1447920"/>
            <a:ext cx="259092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f8c6a"/>
                </a:solidFill>
                <a:latin typeface="Arial"/>
              </a:rPr>
              <a:t>Standard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om dimen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ement of furni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ies &amp; equipment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 orient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C:\Users\My Ngoc\Desktop\Ti Stuffs\universal room\universal room floor layout.jpg"/>
          <p:cNvPicPr/>
          <p:nvPr/>
        </p:nvPicPr>
        <p:blipFill>
          <a:blip r:embed="rId1"/>
          <a:srcRect l="0" t="0" r="15911" b="85"/>
          <a:stretch/>
        </p:blipFill>
        <p:spPr>
          <a:xfrm>
            <a:off x="3200400" y="838080"/>
            <a:ext cx="5638680" cy="5029200"/>
          </a:xfrm>
          <a:prstGeom prst="rect">
            <a:avLst/>
          </a:prstGeom>
          <a:ln w="0">
            <a:noFill/>
          </a:ln>
        </p:spPr>
      </p:pic>
      <p:sp>
        <p:nvSpPr>
          <p:cNvPr id="341" name="TextBox 12"/>
          <p:cNvSpPr/>
          <p:nvPr/>
        </p:nvSpPr>
        <p:spPr>
          <a:xfrm>
            <a:off x="1295280" y="3276720"/>
            <a:ext cx="6858000" cy="2440080"/>
          </a:xfrm>
          <a:prstGeom prst="rect">
            <a:avLst/>
          </a:prstGeom>
          <a:solidFill>
            <a:srgbClr val="d2e3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vent staff confus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time spent on searching for supp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esp. important during sur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 patient safety from reduction of inefficient work-flow induced err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Date Placeholder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E2C5-02E6-45C4-BBED-9574FB97AD73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1355-FA97-4486-9C5B-7C5EDCC26C3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914040" y="17521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dividual patient roo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ing effective lighting and colors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lexibility in adjusting room press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signating &amp; allocating adequate storage sp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on-movable, semi-movable, and movable fixtur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tilization of mobile specialization cart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atient-centered design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ealthcare personnel-centered design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ndardization of room layou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Universal Room Design </a:t>
            </a:r>
            <a:br>
              <a:rPr sz="3600"/>
            </a:br>
            <a:r>
              <a:rPr b="1" i="1" lang="en-US" sz="3000" spc="-1" strike="noStrike">
                <a:solidFill>
                  <a:srgbClr val="000000"/>
                </a:solidFill>
                <a:latin typeface="Perpetua"/>
              </a:rPr>
              <a:t>“Any Patient, Any Room, Any Time”</a:t>
            </a:r>
            <a:endParaRPr b="0" lang="en-US" sz="3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7" name="TextBox 7"/>
          <p:cNvSpPr/>
          <p:nvPr/>
        </p:nvSpPr>
        <p:spPr>
          <a:xfrm>
            <a:off x="1143000" y="2895480"/>
            <a:ext cx="6705720" cy="23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Angsana New"/>
                <a:ea typeface="Angsana New"/>
              </a:rPr>
              <a:t>What’s so exciting about this particular universal room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8"/>
          <p:cNvSpPr/>
          <p:nvPr/>
        </p:nvSpPr>
        <p:spPr>
          <a:xfrm>
            <a:off x="1066680" y="1676520"/>
            <a:ext cx="7239240" cy="42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df6c5d"/>
                </a:solidFill>
                <a:uFillTx/>
                <a:latin typeface="Arial"/>
              </a:rPr>
              <a:t>Goals &amp; Objec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room that can accommodate for varying diagnosis and promote quality healthca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chitecture that is both sensitive to technological advances and industrial engineering optimization processes (ex: work-flow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ion of a therapeutic environment through interior design that utilizes lighting and col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3276720" cy="1036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Franklin Gothic Book"/>
              </a:rPr>
              <a:t>Questions 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Date Placeholder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8CFE-A60A-496C-B827-2A08DDF219DF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390F-247B-4213-A464-644F427F015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C:\Users\My Ngoc\Desktop\Ti Stuffs\universal room\intense colors.jpg"/>
          <p:cNvPicPr/>
          <p:nvPr/>
        </p:nvPicPr>
        <p:blipFill>
          <a:blip r:embed="rId1"/>
          <a:stretch/>
        </p:blipFill>
        <p:spPr>
          <a:xfrm>
            <a:off x="380880" y="167652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354" name="TextBox 7"/>
          <p:cNvSpPr/>
          <p:nvPr/>
        </p:nvSpPr>
        <p:spPr>
          <a:xfrm>
            <a:off x="3638160" y="4191120"/>
            <a:ext cx="53776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tac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o (Kelly) To: </a:t>
            </a:r>
            <a:r>
              <a:rPr b="1" lang="en-US" sz="2000" spc="-1" strike="noStrike">
                <a:solidFill>
                  <a:srgbClr val="6701fd"/>
                </a:solidFill>
                <a:latin typeface="Arial"/>
              </a:rPr>
              <a:t>bto@gatech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ek Bessaad: </a:t>
            </a:r>
            <a:r>
              <a:rPr b="1" lang="en-US" sz="2000" spc="-1" strike="noStrike">
                <a:solidFill>
                  <a:srgbClr val="6701fd"/>
                </a:solidFill>
                <a:latin typeface="Arial"/>
              </a:rPr>
              <a:t>malek.bessaad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Proposal Outl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Date Placeholder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BBCB-3558-4469-8CFB-833AFD19B79E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485C-A58A-4A39-9A00-18D1548ADC8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dividual patient roo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ing effective lighting and colors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lexibility in adjusting room press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signating &amp; allocating adequate storage sp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on-movable, semi-movable, and movable fixtur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tilization of mobile specialization cart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atient-centered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ealthcare personnel-centered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ndardization of room layou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808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Franklin Gothic Book"/>
              </a:rPr>
              <a:t>Design Consider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Date Placeholder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E057-3721-416B-A54B-EC4F20EC972C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4D7D-9AC6-4E29-8BBF-6F1D3486B47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Individual patient room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Using effective lighting and colors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Flexibility in adjusting room press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Designating &amp; allocating adequate storage sp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Perpetua"/>
              </a:rPr>
              <a:t>Non-movable, semi-movable, and movable fixtur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Perpetua"/>
              </a:rPr>
              <a:t>Utilization of mobile specialization cart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Patient-centered design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Healthcare personnel-centered design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Standardization of room layou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f7f7f"/>
                </a:solidFill>
                <a:latin typeface="Franklin Gothic Book"/>
              </a:rPr>
              <a:t>Design Considerations: </a:t>
            </a:r>
            <a:r>
              <a:rPr b="1" lang="en-US" sz="2300" spc="-1" strike="noStrike">
                <a:solidFill>
                  <a:srgbClr val="000000"/>
                </a:solidFill>
                <a:latin typeface="Franklin Gothic Book"/>
              </a:rPr>
              <a:t>Individual Patient Rooms</a:t>
            </a:r>
            <a:endParaRPr b="0" lang="en-US" sz="2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Date Placeholder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34E2-3890-4C6C-837F-DECABA7C03C8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1C9F-AEBE-4804-AD41-89BBC8F405F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C:\Users\My Ngoc\Desktop\Ti Stuffs\universal room\universal room floor layout.jpg"/>
          <p:cNvPicPr/>
          <p:nvPr/>
        </p:nvPicPr>
        <p:blipFill>
          <a:blip r:embed="rId1"/>
          <a:stretch/>
        </p:blipFill>
        <p:spPr>
          <a:xfrm>
            <a:off x="1143000" y="914400"/>
            <a:ext cx="6705720" cy="5033880"/>
          </a:xfrm>
          <a:prstGeom prst="rect">
            <a:avLst/>
          </a:prstGeom>
          <a:ln w="0">
            <a:noFill/>
          </a:ln>
        </p:spPr>
      </p:pic>
      <p:sp>
        <p:nvSpPr>
          <p:cNvPr id="245" name="TextBox 7"/>
          <p:cNvSpPr/>
          <p:nvPr/>
        </p:nvSpPr>
        <p:spPr>
          <a:xfrm>
            <a:off x="1676520" y="4191120"/>
            <a:ext cx="5105160" cy="1769760"/>
          </a:xfrm>
          <a:prstGeom prst="rect">
            <a:avLst/>
          </a:prstGeom>
          <a:solidFill>
            <a:srgbClr val="d2e3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 patient priva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 patient satisfac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ise re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1752840" y="5943600"/>
            <a:ext cx="586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awlings, S. et al. Beyond the universal patient room. www.healthcaredesignmagazine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808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Franklin Gothic Book"/>
              </a:rPr>
              <a:t>Design Consider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Date Placeholder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F68F-E35F-42AE-83E6-35ADA119613F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5460-531A-4A23-96F7-57C16067A44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Individual patient roo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Using effective lighting and colors 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Flexibility in adjusting room press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Designating &amp; allocating adequate storage sp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492480" indent="-205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Perpetua"/>
              </a:rPr>
              <a:t>Non-movable, semi-movable, and movable fixtur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92480" indent="-205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Perpetua"/>
              </a:rPr>
              <a:t>Utilization of mobile specialization cart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Patient-centered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Healthcare personnel-centered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Standardization of room layou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3048120" cy="380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Psychology of </a:t>
            </a:r>
            <a:r>
              <a:rPr b="1" i="1" lang="en-US" sz="2000" spc="-1" strike="noStrike">
                <a:solidFill>
                  <a:srgbClr val="00b050"/>
                </a:solidFill>
                <a:latin typeface="Cambria"/>
              </a:rPr>
              <a:t>C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o</a:t>
            </a:r>
            <a:r>
              <a:rPr b="1" i="1" lang="en-US" sz="2000" spc="-1" strike="noStrike">
                <a:solidFill>
                  <a:srgbClr val="0070c0"/>
                </a:solidFill>
                <a:latin typeface="Cambria"/>
              </a:rPr>
              <a:t>l</a:t>
            </a:r>
            <a:r>
              <a:rPr b="1" i="1" lang="en-US" sz="2000" spc="-1" strike="noStrike">
                <a:solidFill>
                  <a:srgbClr val="ffc000"/>
                </a:solidFill>
                <a:latin typeface="Cambria"/>
              </a:rPr>
              <a:t>o</a:t>
            </a:r>
            <a:r>
              <a:rPr b="1" i="1" lang="en-US" sz="2000" spc="-1" strike="noStrike">
                <a:solidFill>
                  <a:srgbClr val="7030a0"/>
                </a:solidFill>
                <a:latin typeface="Cambria"/>
              </a:rPr>
              <a:t>r</a:t>
            </a:r>
            <a:r>
              <a:rPr b="1" i="1" lang="en-US" sz="2000" spc="-1" strike="noStrike">
                <a:solidFill>
                  <a:srgbClr val="9b2d1f"/>
                </a:solidFill>
                <a:latin typeface="Cambria"/>
              </a:rPr>
              <a:t>s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3AE1-4E5B-48DA-821D-2C50C30F65A2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7578-98D9-4F6F-AEE5-FDA69649098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C:\Users\My Ngoc\Desktop\Ti Stuffs\universal room\ColorWheelText_NEW_400pxl.jpg"/>
          <p:cNvPicPr/>
          <p:nvPr/>
        </p:nvPicPr>
        <p:blipFill>
          <a:blip r:embed="rId1"/>
          <a:stretch/>
        </p:blipFill>
        <p:spPr>
          <a:xfrm>
            <a:off x="457200" y="1371600"/>
            <a:ext cx="4376880" cy="43434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C:\Users\My Ngoc\Desktop\Ti Stuffs\universal room\brain_colors.jpg"/>
          <p:cNvPicPr/>
          <p:nvPr/>
        </p:nvPicPr>
        <p:blipFill>
          <a:blip r:embed="rId2"/>
          <a:stretch/>
        </p:blipFill>
        <p:spPr>
          <a:xfrm>
            <a:off x="5029200" y="3886200"/>
            <a:ext cx="2286000" cy="2657520"/>
          </a:xfrm>
          <a:prstGeom prst="rect">
            <a:avLst/>
          </a:prstGeom>
          <a:ln w="0">
            <a:noFill/>
          </a:ln>
        </p:spPr>
      </p:pic>
      <p:sp>
        <p:nvSpPr>
          <p:cNvPr id="258" name="Title 1"/>
          <p:cNvSpPr/>
          <p:nvPr/>
        </p:nvSpPr>
        <p:spPr>
          <a:xfrm>
            <a:off x="30492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f7f7f"/>
                </a:solidFill>
                <a:latin typeface="Franklin Gothic Book"/>
              </a:rPr>
              <a:t>Design Considerations: </a:t>
            </a:r>
            <a:r>
              <a:rPr b="1" lang="en-US" sz="2300" spc="-1" strike="noStrike">
                <a:solidFill>
                  <a:srgbClr val="000000"/>
                </a:solidFill>
                <a:latin typeface="Franklin Gothic Book"/>
              </a:rPr>
              <a:t>Using Effective Lighting &amp; Col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C:\Users\My Ngoc\Desktop\Ti Stuffs\universal room\psychology.light.jpg"/>
          <p:cNvPicPr/>
          <p:nvPr/>
        </p:nvPicPr>
        <p:blipFill>
          <a:blip r:embed="rId3"/>
          <a:stretch/>
        </p:blipFill>
        <p:spPr>
          <a:xfrm>
            <a:off x="6172200" y="914400"/>
            <a:ext cx="2590920" cy="2760840"/>
          </a:xfrm>
          <a:prstGeom prst="rect">
            <a:avLst/>
          </a:prstGeom>
          <a:ln w="0">
            <a:noFill/>
          </a:ln>
        </p:spPr>
      </p:pic>
      <p:cxnSp>
        <p:nvCxnSpPr>
          <p:cNvPr id="260" name="Straight Arrow Connector 14"/>
          <p:cNvCxnSpPr/>
          <p:nvPr/>
        </p:nvCxnSpPr>
        <p:spPr>
          <a:xfrm flipH="1">
            <a:off x="7467120" y="3809520"/>
            <a:ext cx="457920" cy="83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1" name="Straight Arrow Connector 16"/>
          <p:cNvCxnSpPr/>
          <p:nvPr/>
        </p:nvCxnSpPr>
        <p:spPr>
          <a:xfrm>
            <a:off x="4114800" y="5334120"/>
            <a:ext cx="838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A0A8-6FFB-40E2-9BC1-7AEF0465978E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0A7B-B3C5-4E52-A61C-3411D737435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30492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f7f7f"/>
                </a:solidFill>
                <a:latin typeface="Franklin Gothic Book"/>
              </a:rPr>
              <a:t>Design Considerations: </a:t>
            </a:r>
            <a:r>
              <a:rPr b="1" lang="en-US" sz="2300" spc="-1" strike="noStrike">
                <a:solidFill>
                  <a:srgbClr val="000000"/>
                </a:solidFill>
                <a:latin typeface="Franklin Gothic Book"/>
              </a:rPr>
              <a:t>Using Effective Lighting &amp; Col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609480" y="4114800"/>
            <a:ext cx="8153640" cy="1769760"/>
          </a:xfrm>
          <a:prstGeom prst="rect">
            <a:avLst/>
          </a:prstGeom>
          <a:solidFill>
            <a:srgbClr val="d2e3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efi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 and emotional Comf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rience person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or eliminate environmental stress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positive distr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7"/>
          <p:cNvGrpSpPr/>
          <p:nvPr/>
        </p:nvGrpSpPr>
        <p:grpSpPr>
          <a:xfrm>
            <a:off x="609480" y="1066680"/>
            <a:ext cx="8001000" cy="2319120"/>
            <a:chOff x="609480" y="1066680"/>
            <a:chExt cx="8001000" cy="2319120"/>
          </a:xfrm>
        </p:grpSpPr>
        <p:pic>
          <p:nvPicPr>
            <p:cNvPr id="268" name="Picture 2" descr="C:\Users\My Ngoc\Desktop\Ti Stuffs\universal room\decorative lights.jpg"/>
            <p:cNvPicPr/>
            <p:nvPr/>
          </p:nvPicPr>
          <p:blipFill>
            <a:blip r:embed="rId1"/>
            <a:stretch/>
          </p:blipFill>
          <p:spPr>
            <a:xfrm>
              <a:off x="6400800" y="1066680"/>
              <a:ext cx="2209680" cy="16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3" descr="C:\Users\My Ngoc\Desktop\Ti Stuffs\universal room\ambient light.jpg"/>
            <p:cNvPicPr/>
            <p:nvPr/>
          </p:nvPicPr>
          <p:blipFill>
            <a:blip r:embed="rId2"/>
            <a:stretch/>
          </p:blipFill>
          <p:spPr>
            <a:xfrm>
              <a:off x="609480" y="1066680"/>
              <a:ext cx="22860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" descr="C:\Users\My Ngoc\Desktop\Ti Stuffs\universal room\focal light.jpg"/>
            <p:cNvPicPr/>
            <p:nvPr/>
          </p:nvPicPr>
          <p:blipFill>
            <a:blip r:embed="rId3"/>
            <a:stretch/>
          </p:blipFill>
          <p:spPr>
            <a:xfrm>
              <a:off x="3504960" y="1066680"/>
              <a:ext cx="23148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Box 14"/>
            <p:cNvSpPr/>
            <p:nvPr/>
          </p:nvSpPr>
          <p:spPr>
            <a:xfrm>
              <a:off x="6400800" y="272412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corative Ligh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al touch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15"/>
            <p:cNvSpPr/>
            <p:nvPr/>
          </p:nvSpPr>
          <p:spPr>
            <a:xfrm>
              <a:off x="3445560" y="2742840"/>
              <a:ext cx="241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cal Ligh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cus; high intensity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16"/>
            <p:cNvSpPr/>
            <p:nvPr/>
          </p:nvSpPr>
          <p:spPr>
            <a:xfrm>
              <a:off x="850320" y="2743200"/>
              <a:ext cx="187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mbient Ligh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od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Rectangle 14"/>
          <p:cNvSpPr/>
          <p:nvPr/>
        </p:nvSpPr>
        <p:spPr>
          <a:xfrm>
            <a:off x="838080" y="342900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e3611"/>
                </a:solidFill>
                <a:latin typeface="Angsana New"/>
                <a:ea typeface="Angsana New"/>
              </a:rPr>
              <a:t>Therapeutic environment: psycho-socially suppor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808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Franklin Gothic Book"/>
              </a:rPr>
              <a:t>Design Consider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6" name="Date Placeholder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A2AB-BB4C-4B45-887B-3D7D8826F908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788C-C3C0-41A9-B07C-8C07C7AF2EE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Individual patient roo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Using effective lighting and colors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Flexibility in adjusting room pressure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Designating &amp; allocating adequate storage sp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Perpetua"/>
              </a:rPr>
              <a:t>Non-movable, semi-movable, and movable fixtur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Perpetua"/>
              </a:rPr>
              <a:t>Utilization of mobile specialization cart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Patient-centered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Healthcare personnel-centered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Standardization of room layou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3733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4817"/>
                </a:solidFill>
                <a:latin typeface="Franklin Gothic Book"/>
              </a:rPr>
              <a:t>Positive Press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47960" y="685440"/>
            <a:ext cx="3733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4817"/>
                </a:solidFill>
                <a:latin typeface="Franklin Gothic Book"/>
              </a:rPr>
              <a:t>Negative Press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Date Placeholder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8092-EED9-446C-8E4E-A4C4DACAF1EC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6F0C-605B-4B98-B04C-169A7F2A46D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Content Placeholder 12" descr="positive_illustration.jpg"/>
          <p:cNvPicPr/>
          <p:nvPr/>
        </p:nvPicPr>
        <p:blipFill>
          <a:blip r:embed="rId1"/>
          <a:stretch/>
        </p:blipFill>
        <p:spPr>
          <a:xfrm>
            <a:off x="609480" y="1447920"/>
            <a:ext cx="3733920" cy="3789360"/>
          </a:xfrm>
          <a:prstGeom prst="rect">
            <a:avLst/>
          </a:prstGeom>
          <a:ln w="0">
            <a:noFill/>
          </a:ln>
        </p:spPr>
      </p:pic>
      <p:pic>
        <p:nvPicPr>
          <p:cNvPr id="286" name="Content Placeholder 13" descr="negative_illustration.jpg"/>
          <p:cNvPicPr/>
          <p:nvPr/>
        </p:nvPicPr>
        <p:blipFill>
          <a:blip r:embed="rId2"/>
          <a:stretch/>
        </p:blipFill>
        <p:spPr>
          <a:xfrm>
            <a:off x="4648320" y="1371600"/>
            <a:ext cx="3733560" cy="3855960"/>
          </a:xfrm>
          <a:prstGeom prst="rect">
            <a:avLst/>
          </a:prstGeom>
          <a:ln w="0">
            <a:noFill/>
          </a:ln>
        </p:spPr>
      </p:pic>
      <p:sp>
        <p:nvSpPr>
          <p:cNvPr id="287" name="Title 1"/>
          <p:cNvSpPr/>
          <p:nvPr/>
        </p:nvSpPr>
        <p:spPr>
          <a:xfrm>
            <a:off x="30492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f7f7f"/>
                </a:solidFill>
                <a:latin typeface="Franklin Gothic Book"/>
              </a:rPr>
              <a:t>Design Considerations: </a:t>
            </a:r>
            <a:r>
              <a:rPr b="1" lang="en-US" sz="2300" spc="-1" strike="noStrike">
                <a:solidFill>
                  <a:srgbClr val="000000"/>
                </a:solidFill>
                <a:latin typeface="Franklin Gothic Book"/>
              </a:rPr>
              <a:t>Flexibility in Adjusting Room Press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6"/>
          <p:cNvSpPr/>
          <p:nvPr/>
        </p:nvSpPr>
        <p:spPr>
          <a:xfrm>
            <a:off x="4724280" y="5410080"/>
            <a:ext cx="419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ure a clean processing environment and prevent contamination of the external environ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7"/>
          <p:cNvSpPr/>
          <p:nvPr/>
        </p:nvSpPr>
        <p:spPr>
          <a:xfrm>
            <a:off x="457200" y="5334120"/>
            <a:ext cx="419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 exhausts through floor-level vents. Double-wall steel models feature offset exhaust vents to minimize the chance of contamina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8"/>
          <p:cNvSpPr/>
          <p:nvPr/>
        </p:nvSpPr>
        <p:spPr>
          <a:xfrm>
            <a:off x="2590920" y="640080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terrauniversal.com/products/cleanrooms/pharmclroom.ph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9"/>
          <p:cNvSpPr/>
          <p:nvPr/>
        </p:nvSpPr>
        <p:spPr>
          <a:xfrm>
            <a:off x="1676520" y="3581280"/>
            <a:ext cx="5486400" cy="1434600"/>
          </a:xfrm>
          <a:prstGeom prst="rect">
            <a:avLst/>
          </a:prstGeom>
          <a:solidFill>
            <a:srgbClr val="d2e3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risk of airborne inf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ster preparedness: pandemic fl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staff and other patient saf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02:05:29Z</dcterms:created>
  <dc:creator>My Ngoc</dc:creator>
  <dc:description/>
  <dc:language>en-US</dc:language>
  <cp:lastModifiedBy>My Ngoc</cp:lastModifiedBy>
  <dcterms:modified xsi:type="dcterms:W3CDTF">2008-10-08T23:54:36Z</dcterms:modified>
  <cp:revision>55</cp:revision>
  <dc:subject/>
  <dc:title>Emergency Department  Universal Ro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2111033</vt:lpwstr>
  </property>
</Properties>
</file>